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EE7-F37A-456D-AF80-CCCA286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482-1361-4CC7-A665-1B3E06E2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84F-4659-4BEC-B2CD-1947FD87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DD3-7E07-43F6-85E6-2A1C4198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242-818E-4672-A089-62E9315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C13-CDED-4210-BBD6-C256A1E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FA9-E800-4B84-AD90-A265008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45B-406A-4403-8859-CFBF9C2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801-F4FC-4B19-9AB8-C0280DF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B5D-845A-4C63-8A24-DF62A23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54E-2953-43E8-81E7-009A687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D95-3A06-4189-AB09-12C643C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2D0-E3DE-4D89-A061-4E930385F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rategy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volunteer will be given a manual containing an overview of the objectives and lessons of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ing. Expectations for desired outcomes of the training will be explicitly presented in order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ve time and potential confusion. Training will be broken down into small modules each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ich will focus on a specific skill desired of the volunteers (i.e., names of artists, exhibits, and/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eum procedures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module will end with a short assessment and each new module will begin with 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ief review of the module before it.  At the end of the last module an assessment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material covered in the training manual will be given in order to ascertain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etency of the trainees in the skills desired of them. Also, trainees will be free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ke the manuals home between lessons in order to review the material 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selves and hopefully generate independent interest and motivation. In additio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ees will be allowed to follow experience employees of the museum on tours 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ir leis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trategy 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special section of the training will be devoted to an online tutorial in Exc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d by Microsoft concluding with a test for comprehension and ability 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end of the module. This will then be incorporated into Strategy 1 du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walk through training segment to allow trainees to demonstrate and tes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ir abilities in the actual environment in which they will be work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ing Excel in a short period of time would be best served by a supplant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ing strategy. The online tutorial format is ideal for teaching skills i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ftware applications since it is direct, highly focused, and proven in the fiel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deliver results. Furthermore, Microsoft is highly experienced in this fiel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rategy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raining will consist of a "walk-through" style presentation led by a qualified staff member or manag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 the museum versed in the skills desired of the volunteers. Students will be given a checklist of ski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 information which will be checked off as they go through the walk through. The course will consis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 two halves. This will allow the leader to both watch the volunteers at work and to witness firsthan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y shortcomings in their abilities and to pose difficult scenarios to test their abilities. At the end of th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urse the leader can share his/her impressions with the trainees and provide immediate feedback 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they are doing right or wrong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Rationale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is a simple, low-tech, and direct way of transmitting the desired skills and perform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ectations directly to the volunteers. It also serves the dual purpose of allowing the volunteers t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rn and demonstrate knowledge and the leader of the walk through to assess them, twice. 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fore allows a tremendous amount of exposure between trainees and trainers while imparting th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sired skills. It is also highly economical in terms of wages and man-hou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2:48:20Z</dcterms:created>
  <dc:creator>Michael Burtis</dc:creator>
  <dc:description/>
  <dc:language>en-US</dc:language>
  <cp:lastModifiedBy>Ann M Gall</cp:lastModifiedBy>
  <dcterms:modified xsi:type="dcterms:W3CDTF">2011-07-09T05:36:23Z</dcterms:modified>
  <cp:revision>8</cp:revision>
  <dc:subject/>
  <dc:title>We do I go but to the Lord</dc:title>
</cp:coreProperties>
</file>